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2586-8356-4111-891D-F8DF346AD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2622-7686-4B8C-A231-FD23D5FF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75A7-5D8B-408C-A6EF-2D155844E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385C-44F2-4925-8CE0-CB942B923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B459-F84A-4DB5-A55D-3B90ED8A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6979-1A41-4080-8748-65904935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9E9D-B4D8-4361-9A3D-8E249A23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605B-C7C1-4EFD-8DC8-7A699F9D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1534-A6FA-4BCB-9F2F-C3FDE51B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A822-D618-414D-B3F8-6984283A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CFB8-7B90-4CE4-AD11-8CEA118F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9A7C-4FD3-4ED1-8DBE-62AA6207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2928-0F74-4CF8-86C1-3CC6A3C54A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Ветеран Великой Отечественной войны Яков Григорьевич Кан.</a:t>
            </a:r>
            <a:r>
              <a:rPr b="1" lang="en-US" sz="44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828800" y="2209680"/>
            <a:ext cx="5638680" cy="36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Информация: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http://dv.kp.ru/daily/24469/6285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Работа: Назаровой Екатерины и Шерстобоева Алексе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skerville Old Face"/>
              </a:rPr>
              <a:t>Председатель Совета ветеранов Владивостока Яков Григорьевич К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skerville Old Face"/>
              </a:rPr>
              <a:t>Чуть меньше месяца назад он отпраздновал 90-летний юбил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askerville Old Face"/>
              </a:rPr>
              <a:t>однако возраст для Якова Григорьевича не проблем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skerville Old Face"/>
              </a:rPr>
              <a:t>с энергией юноши он защищает права ветеран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askerville Old Face"/>
              </a:rPr>
              <a:t>частенько мотается по командировкам, работает с молодежь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skerville Old Face"/>
              </a:rPr>
              <a:t>всеми силами пытаясь взрастить в неокрепших умах любовь к Родине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askerville Old Face"/>
              </a:rPr>
              <a:t>ту любов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skerville Old Face"/>
              </a:rPr>
              <a:t>которую когда-то привили и ему само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0" y="297180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После окончания финской войны подразделение Кана перебросили в Прибалтику для обеспечения связ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Здесь же Кан формировал роты связ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В 41-м году мы готовились выехать в летние лагеря в Красное Село под Ленинградом,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а в четыре утра началась война, - вспоминает ветеран. -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Я мобилизовал свою роту связи и выехал на Карельский перешеек - обеспечивать связь нашим войс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0" y="2895480"/>
            <a:ext cx="5181480" cy="364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skerville Old Face"/>
              </a:rPr>
              <a:t>Вывел целую роту из немецкого окруж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Немцы прижали роту почти до Ленинграда, окружив ее в районе больницы Форель  - психиатрической клиники, названной в четь психиатра Огюста Фореля. В годы Великой Отечественной войны больница была уничтожена фашистами вместе со всеми пациентами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4419360" cy="2917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33520" y="3048120"/>
            <a:ext cx="255564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66320" y="380880"/>
            <a:ext cx="7162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Теперь жизни более чем трехсот человек напрямую зависели от действий командира Кана. К счастью, роте удалось вырваться из окружения - командир вывел солдат через болота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За этот подвиг Яков Григорьевич получил свою первую награду - медаль «За боевые заслуги»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981080" y="2666880"/>
            <a:ext cx="5105520" cy="372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С тех пор Яков Кан со своей ротой обеспечивал связь в Ленинграде между штабом армии и войсками. Здесь он пробыл всю блокаду, прочувствовав на себе, что такое голод, когда дневной паек на передовой -  скудные 300 граммов хле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3962520"/>
            <a:ext cx="3505320" cy="2523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33520" y="274320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skerville Old Face"/>
              </a:rPr>
              <a:t>Осколок в колене на память о войне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6091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skerville Old Face"/>
              </a:rPr>
              <a:t>Однажды на наблюдательном пункте передовой в результате мощного обстрела связист был ран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skerville Old Face"/>
              </a:rPr>
              <a:t>- На память об этом у меня остался осколок мины размером  шесть миллиметров в коленном сустав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askerville Old Face"/>
              </a:rPr>
              <a:t>- поделился ветер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skerville Old Face"/>
              </a:rPr>
              <a:t>-  Особо не беспокоит, только в непогоду дает о себе знать - болит старая ра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514600" y="3429000"/>
            <a:ext cx="4572000" cy="30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«Думаю, нормально я воевал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skerville Old Face"/>
              </a:rPr>
              <a:t>Окончание войны застало Кана в Курляндии, где стояла в окружении большая группировка немц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skerville Old Face"/>
              </a:rPr>
              <a:t>-  Нас тогда очень беспокоили прибалтийские партизаны, которые перешли к немцам, - вспоминает Яков Григорьеви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skerville Old Face"/>
              </a:rPr>
              <a:t>-  Они сейчас говорят, что защищали свои республи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askerville Old Face"/>
              </a:rPr>
              <a:t>но то были самые настоящие бандиты, которые из-за угла убивали наших солдат, офицер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362320" y="3352680"/>
            <a:ext cx="4572000" cy="309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Бои шли тяжелые, особенно под Усть-Нарвой, Ригой. И вот когда мы добили курляндскую группу войск, закончилась вой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- Думаю, нормально я воевал, - скромно подытоживает Яков Григорьевич, - были недостатки по молодости, но я их исправлял. Награды, ордена и благодарность Сталина - тому свидетельство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828800" y="2666880"/>
            <a:ext cx="5486400" cy="380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acher</cp:lastModifiedBy>
  <dcterms:modified xsi:type="dcterms:W3CDTF">2010-04-10T11:50:3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